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19D1-6EB5-4735-A828-FD4C83B5E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DAE2-BD7C-4EA7-BDFF-D87C2750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6187-D528-48FB-922D-5A860BF91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B10B-C2C7-4AED-909F-3B0F12411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30BF-3A6C-4631-80A9-0842C218C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1409-5F60-44D9-AEB1-84253733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B025-5A1C-40EE-B2CC-94D8D6C2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8E497-3DCE-45EC-9E46-B58A94E3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6FFE-81E2-4B10-8736-A58318D3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4A19-DE97-44D5-AD78-7683A257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EBF5-9B6F-4AB8-81FE-070E66EE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1833-8AEE-42B8-AC7A-5AD1DF62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E4D0-0910-4E8E-9D73-2E4A587F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5060-DA96-4577-8654-3492C315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BF2D-89CB-49BA-951A-BCC206B5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FCDF-1202-4622-94E4-12F829165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39A7-E808-454F-AB11-EE80EBC5E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F16C-0AD3-4215-B336-DE6412FB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630B-7072-40BB-B32D-DF386AD3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4AB6-EE71-4D2E-B3A5-12F5D590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18B4-A6D7-434E-8F67-1AD8E2A5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6BC8-437E-4633-AAD3-00C01661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01C7-6EB4-478C-B1EC-36CD4552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9765-971C-45A8-9B5F-7ACD8677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999F-D8F1-4B6F-91E3-624E39279398}" type="slidenum">
              <a:rPr b="0" lang="pl-PL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04B7-D7B1-4ACB-83C7-B52AFDCED629}" type="slidenum">
              <a:rPr b="0" lang="pl-PL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66"/>
                </a:solidFill>
                <a:latin typeface="Verdana"/>
              </a:rPr>
              <a:t>Wybrane krainy geograficzne Polski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Verdana"/>
              </a:rPr>
              <a:t>Pobrzeż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Verdana"/>
              </a:rPr>
              <a:t>Pojezierz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Verdana"/>
              </a:rPr>
              <a:t>Nizin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Verdana"/>
              </a:rPr>
              <a:t>Wyżyn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Verdana"/>
              </a:rPr>
              <a:t>Kotliny podgórsk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Verdana"/>
              </a:rPr>
              <a:t>Gó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pl-PL" sz="2400" spc="-1" strike="noStrike">
                <a:solidFill>
                  <a:srgbClr val="000000"/>
                </a:solidFill>
                <a:latin typeface="Verdana"/>
              </a:rPr>
              <a:t>Jerzy Kieł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66"/>
                </a:solidFill>
                <a:latin typeface="Verdana"/>
              </a:rPr>
              <a:t>Sudet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Verdana"/>
              </a:rPr>
              <a:t>Przedgórze Sudeck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Verdana"/>
              </a:rPr>
              <a:t>Sudety Zachodn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Verdana"/>
              </a:rPr>
              <a:t>Sudety Środkow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Verdana"/>
              </a:rPr>
              <a:t>Sudety Wschodn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66"/>
                </a:solidFill>
                <a:latin typeface="Verdana"/>
              </a:rPr>
              <a:t>Sudet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8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Najwyższy szczyt Sudetów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Śnieżka 1603 m n.p.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Verdana"/>
              </a:rPr>
              <a:t>Pierwsza wyprawa na Śnieżkę 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iała miejsce prawdopodobnie w 1456 r. od strony czeskiej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5181480" y="2895480"/>
          <a:ext cx="2652840" cy="26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895480"/>
                    <a:ext cx="2652840" cy="26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0000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66"/>
                </a:solidFill>
                <a:latin typeface="Verdana"/>
              </a:rPr>
              <a:t>Podhal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912960" y="2508120"/>
          <a:ext cx="3978000" cy="298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2960" y="2508120"/>
                    <a:ext cx="3978000" cy="29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43240" y="2895480"/>
            <a:ext cx="3979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Kraina łagodnych wzniesień zbudowanych z fliszu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66"/>
                </a:solidFill>
                <a:latin typeface="Verdana"/>
              </a:rPr>
              <a:t>Tatr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8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Najwyższe góry Polski mające cechy rzeźby wysokogórskiej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Najwyższy szczyt Polski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Rysy 2499 m n.p.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5043600" y="2614680"/>
          <a:ext cx="3979800" cy="27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3600" y="2614680"/>
                    <a:ext cx="3979800" cy="27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0000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66"/>
                </a:solidFill>
                <a:latin typeface="Verdana"/>
              </a:rPr>
              <a:t>Pobrzeż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4343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505050"/>
                </a:solidFill>
                <a:latin typeface="Verdana"/>
              </a:rPr>
              <a:t>Region Pobrzeży Południowobałtyckich to szeroki na kilka, kilkanaście kilometrów pas wzdłuż południowych wybrzeży Bałtyku. Rozciąga się on od Zatoki Kilońskiej aż po Zalew Wiślany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043600" y="2741760"/>
          <a:ext cx="3414600" cy="228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3600" y="2741760"/>
                    <a:ext cx="3414600" cy="22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0000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66"/>
                </a:solidFill>
                <a:latin typeface="Verdana"/>
              </a:rPr>
              <a:t>Pojezierz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4495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e5a42"/>
                </a:solidFill>
                <a:latin typeface="Verdana"/>
              </a:rPr>
              <a:t>Region Pojezierzy Południowobałtyckich, zajmujący niemal jedną czwartą powierzchni Polski, wyróżnia się pagórkowatą rzeźbą wysoczyzn morenowych, porozcinanych dolinami licznych rzek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043600" y="2698920"/>
          <a:ext cx="3490920" cy="22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3600" y="2698920"/>
                    <a:ext cx="3490920" cy="22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0000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66"/>
                </a:solidFill>
                <a:latin typeface="Verdana"/>
              </a:rPr>
              <a:t>Pojezierz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42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e5a42"/>
                </a:solidFill>
                <a:latin typeface="Verdana"/>
              </a:rPr>
              <a:t>Region Pojezierzy Wschodniobałtyckich ze względu na położenie w obrębie platformy wschodnioeuropejskiej i odmienności klimatycznej i roślinnej zaliczony jest do Europy Wschodniej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5043600" y="2774880"/>
          <a:ext cx="3643200" cy="224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3600" y="2774880"/>
                    <a:ext cx="3643200" cy="22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0000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66"/>
                </a:solidFill>
                <a:latin typeface="Verdana"/>
              </a:rPr>
              <a:t>Nizi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8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e5a42"/>
                </a:solidFill>
                <a:latin typeface="Verdana"/>
              </a:rPr>
              <a:t>Niziny Środkowopolskie zajmują 89 tys. km</a:t>
            </a:r>
            <a:r>
              <a:rPr b="1" lang="pl-PL" sz="2400" spc="-1" strike="noStrike" baseline="30000">
                <a:solidFill>
                  <a:srgbClr val="2e5a42"/>
                </a:solidFill>
                <a:latin typeface="Verdana"/>
              </a:rPr>
              <a:t>2</a:t>
            </a:r>
            <a:r>
              <a:rPr b="1" lang="pl-PL" sz="2400" spc="-1" strike="noStrike">
                <a:solidFill>
                  <a:srgbClr val="2e5a42"/>
                </a:solidFill>
                <a:latin typeface="Verdana"/>
              </a:rPr>
              <a:t> co stanowi 28% powierzchni kraju. Jednostka ta położona jest w środkowej Polsce granicząc z masywem Sudetów i Wyżynami Polskimi od południa, a pasmem pojezierzy od północ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5043600" y="2470320"/>
          <a:ext cx="3795480" cy="29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3600" y="2470320"/>
                    <a:ext cx="3795480" cy="29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0000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66"/>
                </a:solidFill>
                <a:latin typeface="Verdana"/>
              </a:rPr>
              <a:t>Wyży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8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e5a42"/>
                </a:solidFill>
                <a:latin typeface="Verdana"/>
              </a:rPr>
              <a:t>Wyżyna Małopolska zajmuje 16,7 tys. km2, tj. 5,3% terytorium Polski. Ciągnie się od doliny Wisły między Krakowem a Sandomierzem ku północnemu - zachodowi po Tomaszów Mazowiecki i Radomsk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5043600" y="2470320"/>
          <a:ext cx="3490920" cy="268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3600" y="2470320"/>
                    <a:ext cx="3490920" cy="26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0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66"/>
                </a:solidFill>
                <a:latin typeface="Verdana"/>
              </a:rPr>
              <a:t>Kotliny podgórskie</a:t>
            </a:r>
            <a:br>
              <a:rPr sz="4400"/>
            </a:br>
            <a:r>
              <a:rPr b="0" lang="pl-PL" sz="4400" spc="-1" strike="noStrike">
                <a:solidFill>
                  <a:srgbClr val="003366"/>
                </a:solidFill>
                <a:latin typeface="Verdana"/>
              </a:rPr>
              <a:t>u podnóża Karp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837720" y="2860560"/>
            <a:ext cx="762012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Verdana"/>
              </a:rPr>
              <a:t>Obejmują one na terytorium Polski kotliny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9a00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Verdana"/>
              </a:rPr>
              <a:t>Ostrawsk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9a00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Verdana"/>
              </a:rPr>
              <a:t>Oświęcimsk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66"/>
                </a:solidFill>
                <a:latin typeface="Verdana"/>
              </a:rPr>
              <a:t>Gór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8381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2e5a42"/>
                </a:solidFill>
                <a:latin typeface="Verdana"/>
              </a:rPr>
              <a:t>Zewnętrzne Karpaty Zachodnie zajmują w granicach Polski obszar o powierzchni 16 tys. km</a:t>
            </a:r>
            <a:r>
              <a:rPr b="1" lang="pl-PL" sz="2400" spc="-1" strike="noStrike" baseline="30000">
                <a:solidFill>
                  <a:srgbClr val="2e5a42"/>
                </a:solidFill>
                <a:latin typeface="Verdana"/>
              </a:rPr>
              <a:t>2</a:t>
            </a:r>
            <a:r>
              <a:rPr b="1" lang="pl-PL" sz="2400" spc="-1" strike="noStrike">
                <a:solidFill>
                  <a:srgbClr val="2e5a42"/>
                </a:solidFill>
                <a:latin typeface="Verdana"/>
              </a:rPr>
              <a:t> (5% terytorium kraju). Położone są na zachodnim łuku Karpat, granicząc z Kotlinami Podkarpackimi od północy, a Karpatami Wewnętrznymi od południa. Na wschodzie sąsiadują z Zewnętrznymi Karpatami Wschodnimi, reprezentowanymi na terytorium Polski przez Bieszczad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0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3366"/>
                </a:solidFill>
                <a:latin typeface="Verdana"/>
              </a:rPr>
              <a:t>Babia Góra –Królowa Beskidów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666880" y="2666880"/>
          <a:ext cx="3978360" cy="283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666880"/>
                    <a:ext cx="3978360" cy="28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0000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9T20:31:14Z</dcterms:created>
  <dc:creator>Kiełb</dc:creator>
  <dc:description/>
  <dc:language>en-US</dc:language>
  <cp:lastModifiedBy>Kiełb</cp:lastModifiedBy>
  <dcterms:modified xsi:type="dcterms:W3CDTF">2006-01-03T19:56:14Z</dcterms:modified>
  <cp:revision>3</cp:revision>
  <dc:subject/>
  <dc:title>Wybrane krainy geograficzne Polski</dc:title>
</cp:coreProperties>
</file>